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4.jpeg" ContentType="image/jpeg"/>
  <Override PartName="/ppt/media/camera.wav" ContentType="audio/x-wav"/>
  <Override PartName="/ppt/media/oceanwaves.wav" ContentType="audio/x-wav"/>
  <Override PartName="/ppt/media/image6.png" ContentType="image/png"/>
  <Override PartName="/ppt/media/image5.gif" ContentType="image/gif"/>
  <Override PartName="/ppt/media/image19.jpeg" ContentType="image/jpeg"/>
  <Override PartName="/ppt/media/airport.wav" ContentType="audio/x-wav"/>
  <Override PartName="/ppt/media/image7.wmf" ContentType="image/x-wmf"/>
  <Override PartName="/ppt/media/image11.jpeg" ContentType="image/jpeg"/>
  <Override PartName="/ppt/media/image9.jpeg" ContentType="image/jpeg"/>
  <Override PartName="/ppt/media/whoosh.wav" ContentType="audio/x-wav"/>
  <Override PartName="/ppt/media/image8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kooka%20sound.wav" ContentType="audio/x-wav"/>
  <Override PartName="/ppt/media/image18.gif" ContentType="image/gif"/>
  <Override PartName="/ppt/media/applause.wav" ContentType="audio/x-wav"/>
  <Override PartName="/ppt/media/image20.png" ContentType="image/png"/>
  <Override PartName="/ppt/media/image21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2C1-1AAD-4DD8-89EB-7654F176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438-FD12-4CE3-AA0D-55E4DB3C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EE3-7F67-4390-950B-86B1EBAB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68A-A4EA-4A96-9702-6D214916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5D8D-98E8-4564-9307-F50AD01E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7E3D-670A-4622-BB48-19E58BD2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980-E13F-4D3B-BEF0-00E307F3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CF6E-8077-4901-8806-1451FD28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ABFE-FD10-4BB7-B49E-9519F88A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D530-D8AD-45B3-BF02-9E1ACC5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40A0-77CB-4804-B98C-961D13D8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2D0-DFA6-46DE-9AED-F0AA4B6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D6F8-C275-43FD-9D18-25B81BE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6F69-3FC3-4195-AA14-76976B0A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72E3-BC09-443B-9CB9-22F4656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BE52-FFC6-4373-B9EC-0EF5AF07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F0F8-B306-4FCC-A3FC-883A6B33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FC7-B3FB-45B8-97B7-C3D4A0A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770-1008-4221-97A0-2CFFE33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7DC-1126-49CF-86A9-346618E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65A-0B20-4A8C-9C8E-AA95E157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2D4-350B-4D44-8E09-C8FE810E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03D-686B-45B6-9EBC-79D5319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FE2-19BC-4231-BA35-2E358E1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32B-0C50-4A2E-A3D8-56DA4C4A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952C-4B8A-437B-9EE7-34237900A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oceanwaves.wav" TargetMode="External"/><Relationship Id="rId3" Type="http://schemas.microsoft.com/office/2007/relationships/media" Target="file:///tmp/home/.config/libreoffice/4/user/gallery/oceanwav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irport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file:///tmp/home/.config/libreoffice/4/user/gallery/didgmusic.wav" TargetMode="External"/><Relationship Id="rId4" Type="http://schemas.microsoft.com/office/2007/relationships/media" Target="file:///tmp/home/.config/libreoffice/4/user/gallery/didgmusic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file:///tmp/home/.config/libreoffice/4/user/gallery/kooka%20sound.wav" TargetMode="External"/><Relationship Id="rId4" Type="http://schemas.microsoft.com/office/2007/relationships/media" Target="file:///tmp/home/.config/libreoffice/4/user/gallery/kooka%20soun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oceanwav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kooka%20sound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605400" cy="346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143000" y="38088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ustralia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0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-1440"/>
            <a:ext cx="62485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Australia Rules Football is a popular sport in Australia.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909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Boomera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51055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merang returns to you after you thr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04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37836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anguag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638320"/>
            <a:ext cx="205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3716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e are some Australia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195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nglish                 Austral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581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le B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267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267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95288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4952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2640" y="563868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f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56386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00960"/>
            <a:ext cx="62485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List two things on your paper that you have learned about Australia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at are 2 things that you would like to learn about Austr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62485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st one thing on your paper that you already know about Australia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158840"/>
            <a:ext cx="6248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irp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657760" cy="4057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666880" y="4386240"/>
            <a:ext cx="3592800" cy="247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5960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ives of Austral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1542960"/>
            <a:ext cx="3543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 Black"/>
              </a:rPr>
              <a:t>Aborigi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1219320"/>
            <a:ext cx="7772400" cy="3276000"/>
            <a:chOff x="457200" y="1219320"/>
            <a:chExt cx="7772400" cy="3276000"/>
          </a:xfrm>
        </p:grpSpPr>
        <p:sp>
          <p:nvSpPr>
            <p:cNvPr id="98" name=""/>
            <p:cNvSpPr/>
            <p:nvPr/>
          </p:nvSpPr>
          <p:spPr>
            <a:xfrm>
              <a:off x="457200" y="1219320"/>
              <a:ext cx="4952880" cy="22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Aborigines were th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first people to discove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Australia.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105520" y="1371600"/>
              <a:ext cx="3124080" cy="312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4724280" cy="182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48769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origines play the didgerid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04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46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nimals of Austral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1600200"/>
            <a:ext cx="4241880" cy="2184480"/>
            <a:chOff x="609480" y="1600200"/>
            <a:chExt cx="4241880" cy="21844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600200" y="1600200"/>
              <a:ext cx="325116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09480" y="1981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85800" y="4572000"/>
            <a:ext cx="4267080" cy="1841400"/>
            <a:chOff x="685800" y="4572000"/>
            <a:chExt cx="4267080" cy="18414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85800" y="4572000"/>
              <a:ext cx="2539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352680" y="5181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cod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400800" y="2286000"/>
            <a:ext cx="2313000" cy="4114800"/>
            <a:chOff x="6400800" y="2286000"/>
            <a:chExt cx="2313000" cy="41148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400800" y="2895480"/>
              <a:ext cx="23130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476760" y="22860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angaro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ceanwav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ore Anima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05120" y="4286160"/>
            <a:ext cx="4876560" cy="2571840"/>
            <a:chOff x="1905120" y="4286160"/>
            <a:chExt cx="4876560" cy="25718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905120" y="4286160"/>
              <a:ext cx="3200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181480" y="5638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mb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720" y="1447920"/>
            <a:ext cx="4651200" cy="3126600"/>
            <a:chOff x="3276720" y="1447920"/>
            <a:chExt cx="4651200" cy="312660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3276720" y="1447920"/>
              <a:ext cx="46512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91320" y="4114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n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1143000"/>
            <a:ext cx="2971800" cy="3479760"/>
            <a:chOff x="228600" y="1143000"/>
            <a:chExt cx="2971800" cy="347976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28600" y="1143000"/>
              <a:ext cx="262728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371600" y="3352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okabur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ooka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24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ites of Austral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" y="1523880"/>
            <a:ext cx="7974000" cy="3729240"/>
            <a:chOff x="685800" y="1523880"/>
            <a:chExt cx="7974000" cy="37292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85800" y="1523880"/>
              <a:ext cx="325116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800600" y="2666880"/>
              <a:ext cx="3859200" cy="25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5680" y="1752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reat Barrier Re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4920" y="3962520"/>
            <a:ext cx="7391160" cy="2517120"/>
            <a:chOff x="304920" y="3962520"/>
            <a:chExt cx="7391160" cy="25171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04920" y="3962520"/>
              <a:ext cx="3733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191120" y="60199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Opera 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2:27Z</dcterms:created>
  <dc:creator>Instructional</dc:creator>
  <dc:description/>
  <dc:language>en-US</dc:language>
  <cp:lastModifiedBy> </cp:lastModifiedBy>
  <dcterms:modified xsi:type="dcterms:W3CDTF">2009-07-08T22:39:07Z</dcterms:modified>
  <cp:revision>23</cp:revision>
  <dc:subject/>
  <dc:title>AUSTRALIA</dc:title>
</cp:coreProperties>
</file>